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8471-F7C3-4C88-A858-C19A20C96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C4F1-9BE8-42B6-85E2-0F6FE0208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0006-1BC1-4FD4-8934-276DB8FA8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E490-0F5F-4CB3-AD00-75E103267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0402-6B5D-4C3C-9226-A86F5F126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0C7D-C8D8-418C-81CE-3CFB03E15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4F59-EA49-4D46-8FB1-EE9CE748B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D91F-D312-4977-BF5B-A3766DA1A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F2AA-A627-456F-8088-2972678BB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20A5-A00A-4306-A1FD-5F0797CAA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1D4F-9083-4191-9DD9-8C3BAF256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06D4-738B-4FD5-BB78-5F92A10A7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8378-B88A-4308-891D-2B3AF4743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0CC6-D1D4-40FB-8158-5952FA607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48DA-BC69-4DBD-8F7C-F14643958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7BD2-C6AE-47E7-8BE9-C1D1BF67C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859F-27BD-4D5C-B256-A5F904EAF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6486-945C-48F0-91B6-DC2D717B0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254E-FED0-4EE5-80E9-DE8DA99E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1CCF-231F-4554-9F00-15818EDD6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60FF-E1F0-4DDA-8380-52F11B041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8531-4281-4792-B418-2A64A2C8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7A62-FC38-4DB2-9809-98738E765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A69-F930-4A42-89EE-36CD4216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49A-ED36-4490-8F33-8964ADDA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82689-DBFE-4409-9C5D-C50F650E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86964-5B44-483A-A216-A6366A89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B026B-7E6A-490D-8EAA-08C36996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D2450-C915-40EF-9E95-99B88223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01402-B49F-4311-8ECC-1D684C01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628E2-5FE0-4E97-BBAF-D15BB9E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3D5CA-FFD1-4209-87FB-2E81EA00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FBF00-DE82-4819-B998-49A7C366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19F73-68C5-4790-B58C-B52FF670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EA53E-A1FA-4123-90F2-8E0D826D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9B2-85A5-4CB4-9C6A-A0485DE6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121B1-FF56-4308-8D5C-58F4757F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F9772-0E95-4958-8DC1-FD0BBA56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18DF8-CA38-4491-BB5B-BF56FFE8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CB752-C977-423A-B9F0-5160EE52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3A66F-1B57-4196-83FB-5E702766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46D94-21C9-4F17-875B-702C6F4A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3525A-9F6E-45CC-B4D0-6C26EC1D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8FEBF-958A-4FF9-A78E-96ADF332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7D39C-A5AA-47F3-98A0-0B2185A0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6420D-7CEA-41A1-9E81-9ADAD522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E47-FA12-4B88-9C61-E1743A3C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D57C8-D797-43A2-92A4-ABAAA78D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524B5-3DA6-4C10-8058-70EDA414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0F756-0F8B-4CFB-BD2E-59CA8E37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1A804-6434-44D3-8EC5-CE4A40B8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03A4A-870B-4793-B5D9-495DF9BD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5E2D5-C8F4-4A05-AD04-B5DB1D4C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D551F-B2E7-4A29-A85A-6722ADD9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7D1A7-AF22-4317-8419-071AFA86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BCD8B-9DC5-444C-ABAA-D71D26D2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5C510-EF99-42CE-A89C-B08FCFC0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0874-72AD-40C0-802C-FA8B26F8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B52D9-8F98-4950-A3A6-3FE87B87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287F2-9F78-49D4-8655-2E00FE4C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4444E-C727-4B49-BB82-089020FD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343F8-75D3-4E45-AFD6-E6277249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C31FD-7250-46C9-ADDB-92576F41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F5677-0AC5-4A2E-9D3F-9DC5E80E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6B566-94D0-4FC1-9900-9A1BBE3B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5AEFA-AC1E-4AD6-A0E7-56FB692A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E9745-70C7-4D32-9E90-1643C9C5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60607-D847-4487-A51F-2C68FB7A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53C8-DAF3-4345-B666-7600AF8E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CEE15-C4A2-4981-A3E0-CB9F5849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131BB-C632-4C75-A1F5-6A829816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C5F30-2B7A-4C20-A246-7A49490A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1BEA7-FC8E-4EE0-9B11-5807A29B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73212-F5E0-43E5-810A-1E379F28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0AC8-C8B8-4960-B359-09B288D5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3FB7-73D7-4B53-8BA7-66CD5CB7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3933-6308-4F40-883B-A74122A6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553A-31B0-432D-BF54-9249C492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8933-47E8-4119-AC84-0D14D14E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2E4-1861-4183-BCD2-11FFF16D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2CAE-634C-42AF-B115-F3CDE599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8248-1EC9-436C-ADB1-36E5F3A4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A171-D185-489A-BEA7-F9291660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8C94-86C3-41E3-8E69-C2F7ACE3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A56B-E95C-4BB5-9C84-5F22F954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122A-D47C-497F-828B-311792DE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B744-0951-4525-A179-E668A6E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7477-CB63-49D7-888F-8F0E8254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98208-B4A6-48F1-9689-ACFA6AF1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FACB-0F4C-44AF-8CDF-3445714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A27-FAA2-4F3C-897F-4F0A9B1D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3C5F-0296-4383-8E4D-6A4B1565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66691-832D-4B74-AD92-038DEFA6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8B8B-3358-4766-811B-BE845997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2A5A7-527B-4FB6-86F0-5432B507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E7E7-93F2-4771-B0D7-BDA2F7C3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544BC-2645-4446-A7F1-75A5FF48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1E81-35A1-4AC4-AE70-B9DDC41D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8514-819F-4146-8804-F40688D1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A6D9B-36C1-4DD6-9DCE-26921BA8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EB3A-07EB-418E-8C4A-8A2751D2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8BC-1163-4160-88BC-708D97FC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0533F-0B79-4109-8291-189A96BE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1CEE5-B335-4D74-9F0C-9BABC5A2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A723B-7739-4272-860B-957D739E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431B1-A6D4-4ACC-9AEF-A09F95CD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65FA-BC6D-489D-B14B-B44EB46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05F47-8F70-48B5-9B2F-3AD436A5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5D36-1F4A-483D-965E-0B2C6BDD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E218F-F68F-4725-8765-CFE3D2EA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5D05-2A17-491D-994E-D60BB5E3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F001-8941-4E95-82D9-D1AA4C71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869-97B0-4192-B870-F8D5C6ED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BF334-1F21-4B8A-86CA-416AA648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BB9A8-A201-4B96-B432-F2AF303B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D97FD-BA9E-48F1-9FCC-CA048C99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7926E-EF2C-4454-A53E-2BF3B54B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AE875-6F46-4B34-8A0C-3858B0EB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C46B1-F1CF-4888-87B9-FC1F1E5B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2A9CF-E578-47DE-AEEA-DBA292FF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92055-0DC0-4492-A0EB-A7C68A9C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9DEBF-C69B-416B-9349-2A3E46F1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B08F0-2D9C-4202-BEBC-336119A9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049-0AF2-429C-A9E8-25A0E4EF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E842B-1059-4E9F-9AB0-93C13E53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A3847-B7E7-47EA-92B4-CDBF4938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8D034-1A3F-4A22-AFB3-3A816F29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BA7E4-0DB3-4A6D-AF9E-3DA9B4AD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164D4-B4B1-4F1E-9980-06113641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88673-B47B-44EB-8F38-6D89D735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304C1-A69E-40C6-96A8-74D7C2D2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3AE01-AED0-4EF5-9024-5DEA9111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81EAA-A5A3-4E25-969C-435FCD28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7792F-C29C-485B-9BF3-859CDD17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68F-247E-4CC0-9A27-81A57DF5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E1124-5206-4F6B-A955-F5DA791A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4043F-86F2-459C-9149-012735CD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B4255-ABFD-4277-9BC5-12976A18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AE576-6938-46A2-9E7C-9094A4C9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9ABCC-9258-4D66-9FC5-E07851F4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E2119-8675-48E1-927C-87B36E65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42DB-B43E-4697-B850-B79F16B7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571FE-E23C-48E8-B0D3-85EC1995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AC077-3D0B-4C82-BF75-E49EA5D8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7D7F3-3E01-4C3B-B1BA-77D7B255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77C-0B5C-4285-B1E3-62027C6B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39A3B-2519-4BCD-9D9C-A9375E0C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46441-2B61-4EB3-A1D1-DEB00C3C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9A7B9-E550-4E9A-A289-01DE086E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7FB7A-7633-42FE-8FB7-D14F8026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A8014-C9B5-4724-BC67-00478CDB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538E2-8C65-44BE-9BE7-8FE9C73E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63354-C71B-4BF8-B8F1-2E077AA4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25B62-F250-4288-81F6-AB302187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FB897-416A-4239-88E4-6C6947C9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1739A-B946-4D8F-AD02-BA03721F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284-E00B-48FA-A080-2386D3AA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60E4C-E99F-422E-AE51-738A455B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9F3EB-8D16-4DAC-B941-AE244EDB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F0E6-4594-433E-A74D-F4C8B9E8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12471-49BA-480A-93EE-C6533A34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B7C7D-7612-4F3A-91F8-3C721CE2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6C940-FC5C-460A-AC8E-C45A1045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3E265-9B5D-42F0-ACDA-B3383B4B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BC849-7AC7-47DF-923E-0FAD9597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3F962-D112-4A85-BD9B-FC6D89C0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71932-16D2-4EA7-A62C-FA0492A9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3E82-1CB8-4873-9558-B1376F872CB9}" type="slidenum"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0259-D9B4-4311-84AF-DB67B86875AA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4209-0597-4A1C-90FB-BA40064A0A49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097F-D9F5-4DC4-91B0-73C8AA5F33BB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C528-33C1-4C0E-8217-F6F0F2EBC11F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72A0-A1F6-4F09-93BB-2AADB5A9F54C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DD32-B60A-47B0-8B99-3A28536245EB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00C8-F20A-4A96-ACBA-E056A836D247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A109-32AA-4CC1-9CEB-22B695139C15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70B6-7B3F-48C2-BBCC-BD2FCC372386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FDB3-BF38-4DB1-AC7D-474DF8E50599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7086600" y="6324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F429-6D6F-4AB0-AB82-636FECEDC574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51051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4717-F947-4FCE-A55F-76419589C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The Public Finance Context 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4BC5-AB4E-4C25-A8D9-A99468E56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conomic Effec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a neutral impact on the econo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policy can impact individual or corporate behav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 deduction for mortgage inter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tax rates across jurisdictions (i.e.. sales tax differenc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-based, low-rate taxes create the fewest economic distor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2A16-62CA-460B-BF11-0855CD378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ministration and Complian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re complex the tax, the greater the costs of administration and compl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ing and gathering rec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the tax li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ittance of the tax li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F0A9-CCF6-48C9-B1E7-DB054A8CF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Income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source of revenue for the federal gover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41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more states tax interest, dividends, and capital ga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s in how income is measu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911E-34E9-4EE7-BAEE-609993238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Income Tax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high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progressive of the major forms of taxation in the United St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ably stable until the 1990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elastic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ing of tax brackets has reduced the elastic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433A-D86C-4CED-A569-E8FB4FF0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Income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eff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neu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deductions and measurement issues change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ly to adminis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overn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axpay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1AE3-3B76-470D-9E2A-E0753196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te Income Tax Refor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en the 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h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values of personal exemptions, standard deductions and earned income credits to eliminate the poor from tax ro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the entire tax structure so revenue increases are not the result of inf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CF38-CFC8-4F90-A278-849FF3D19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Sales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state ta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use by 45 st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s is consum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many states exempt certain purch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thing up to a certain expenditure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634A-3D24-4E9E-9A41-C635BC335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Sales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s elastic as income tax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ly more stable than income tax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stable than property tax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izontal equity is hi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rates are generally uniform within a jurisdi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al equ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es taxes tend to be regressive because consumption as a percent of income declines as income ri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9A1-9619-4224-A383-B7B3E0E11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Sales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effects depend on the mobility of products and the disparity of rates across jurisdi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costs generally lower than for income or property tax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 to be more politically acce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igan 1994, for exa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r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ied on nonres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23BF-8FC0-4400-84DC-100826D1A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Property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stay of local government 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s is w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proper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property (some stat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true or market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ting alternative assessed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land use (i.e., farmi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laws that distort assessed value (i.e., California’s Prop. 1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EFD5-5D47-460F-B54D-171009509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he Federal System: 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urces of Revenue for Scho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school distri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property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gover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gover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70C2-1409-4466-8E59-B2B9CE66A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Property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ly inelas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 is generally st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greement about the regressivity or progressivity of the property ta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greement it is regressive at income levels below $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6AED-9B50-475B-BCCF-246AEC5EE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Property Tax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administration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y and collection of the ta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tax relie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stead exemp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break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 deferr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tax limit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B040-0436-4B06-926B-552001418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alysis: Lotterie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troduced in New Hampshire in 19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rtion of education reven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teries are a ta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greement lotteries are regres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 has shown to be relatively uns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s flatten out over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administration costs (often as much as 2/3 of reven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 and selling ti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z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0137-7539-4CA6-A518-2C0AB6214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Assessing and 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Understanding Taxation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x Yield = Tax Rate x Tax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DC1C-0B0F-4BC0-82D8-6A13E18C3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riteria for Evaluating Tax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x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effects of the ta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and compli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7AB6-CC36-47E5-9F77-81748448F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ax Bas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tity to which a tax rate is appli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1701-7145-466B-8BEA-880D3CDA3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iel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revenue a tax will 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broad-based taxes with low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es that offer a consistent yield over time are desirable from a planning perspec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the percentage change in yield compared to the percentage change in th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0BD3-7BDA-47A6-A1DA-7F9DF8D38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ax Equ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the “fairness” of a ta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izontal equ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 tax treatment of individuals in the same or equal circums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al equ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tax treatment of individuals at different circumstances (i.e., ability to p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AE11-A7B9-4CE6-9ABB-40FB03470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ertical Equ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ability to pay increases, the proportion of income taxed incre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ressive ta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ability to pay increases, the proportion of income taxed decre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rtional ta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ability to pay changes, the proportion of income taxed remains the sam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7086600" y="6324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1AE6-DB0B-4319-B9BD-7A246D184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ther Equity Issue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incid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actually pays the tax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f income trans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14:27Z</dcterms:created>
  <dc:creator>AllanO</dc:creator>
  <dc:description/>
  <dc:language>en-US</dc:language>
  <cp:lastModifiedBy>AEURY</cp:lastModifiedBy>
  <cp:lastPrinted>1998-11-17T16:53:48Z</cp:lastPrinted>
  <dcterms:modified xsi:type="dcterms:W3CDTF">2011-06-12T19:52:07Z</dcterms:modified>
  <cp:revision>57</cp:revision>
  <dc:subject/>
  <dc:title>No Slide Title</dc:title>
</cp:coreProperties>
</file>